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366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3011760" cy="4366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9520" y="655200"/>
            <a:ext cx="4664160" cy="34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31680" y="4371840"/>
            <a:ext cx="5019480" cy="41529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744040"/>
            <a:ext cx="2940120" cy="4363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71800" y="8744040"/>
            <a:ext cx="3011760" cy="4363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534C5801-7F49-4097-AA97-2F251CFE080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71800" y="8744040"/>
            <a:ext cx="3011760" cy="4363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D4260566-1371-4BB3-84DF-640943CA2CE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8744040"/>
            <a:ext cx="2940120" cy="4363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-360"/>
            <a:ext cx="2940120" cy="4366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71800" y="-360"/>
            <a:ext cx="3011760" cy="4366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71800" y="8744040"/>
            <a:ext cx="3011760" cy="4363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550F5873-A516-46D1-8882-83FAFF73B8C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744040"/>
            <a:ext cx="2940120" cy="4363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-360"/>
            <a:ext cx="2940120" cy="4366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71800" y="-360"/>
            <a:ext cx="3011760" cy="4366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72316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87231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01600" y="657360"/>
            <a:ext cx="4670640" cy="3503520"/>
          </a:xfrm>
          <a:prstGeom prst="rect">
            <a:avLst/>
          </a:prstGeom>
          <a:ln w="0">
            <a:noFill/>
          </a:ln>
        </p:spPr>
      </p:sp>
      <p:graphicFrame>
        <p:nvGraphicFramePr>
          <p:cNvPr id="311" name=""/>
          <p:cNvGraphicFramePr/>
          <p:nvPr/>
        </p:nvGraphicFramePr>
        <p:xfrm>
          <a:off x="1058760" y="6616800"/>
          <a:ext cx="4765680" cy="1874880"/>
        </p:xfrm>
        <a:graphic>
          <a:graphicData uri="http://schemas.openxmlformats.org/drawingml/2006/table">
            <a:tbl>
              <a:tblPr/>
              <a:tblGrid>
                <a:gridCol w="4765680"/>
              </a:tblGrid>
              <a:tr h="3744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9880" y="4378320"/>
            <a:ext cx="5010120" cy="21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22560"/>
            <a:ext cx="77216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7721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1360" y="3635640"/>
            <a:ext cx="7721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322560"/>
            <a:ext cx="77216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760" y="148608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1360" y="363564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7760" y="363564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322560"/>
            <a:ext cx="77216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248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22080" y="1486080"/>
            <a:ext cx="248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3160" y="1486080"/>
            <a:ext cx="248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1360" y="3635640"/>
            <a:ext cx="248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22080" y="3635640"/>
            <a:ext cx="248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3160" y="3635640"/>
            <a:ext cx="248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22560"/>
            <a:ext cx="77216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11360" y="148608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22560"/>
            <a:ext cx="77216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22560"/>
            <a:ext cx="77216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376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486080"/>
            <a:ext cx="376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322560"/>
            <a:ext cx="77216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7721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22560"/>
            <a:ext cx="77216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486080"/>
            <a:ext cx="376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11360" y="363564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22560"/>
            <a:ext cx="77216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376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48608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7760" y="363564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22560"/>
            <a:ext cx="77216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48608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1360" y="3635640"/>
            <a:ext cx="7721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9080"/>
            <a:ext cx="9144000" cy="95400"/>
            <a:chOff x="0" y="-19080"/>
            <a:chExt cx="9144000" cy="95400"/>
          </a:xfrm>
        </p:grpSpPr>
        <p:sp>
          <p:nvSpPr>
            <p:cNvPr id="1" name=""/>
            <p:cNvSpPr/>
            <p:nvPr/>
          </p:nvSpPr>
          <p:spPr>
            <a:xfrm>
              <a:off x="0" y="-19080"/>
              <a:ext cx="9144000" cy="37440"/>
            </a:xfrm>
            <a:prstGeom prst="rect">
              <a:avLst/>
            </a:prstGeom>
            <a:gradFill rotWithShape="0">
              <a:gsLst>
                <a:gs pos="0">
                  <a:srgbClr val="567fe2"/>
                </a:gs>
                <a:gs pos="50000">
                  <a:srgbClr val="618ffd"/>
                </a:gs>
                <a:gs pos="100000">
                  <a:srgbClr val="567f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8520"/>
              <a:ext cx="9144000" cy="3780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11160" y="6705720"/>
            <a:ext cx="9132840" cy="75960"/>
            <a:chOff x="11160" y="67057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11160" y="6705720"/>
              <a:ext cx="9132840" cy="370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" y="6762960"/>
              <a:ext cx="9132840" cy="18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4572000" y="6573960"/>
            <a:ext cx="38088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5055-7D5C-4B86-9B77-D2CB3BACAFD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11360" y="148608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4000"/>
              <a:buFont typeface="Symbol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609120" y="38088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240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ing Leadership Skills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 What Do Leaders Do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Direction - Where we are hea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The “Why” &amp; “Benefits” of the dir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, Coach and Couns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gnize Results and                  Reinforce Desired Behavi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viding Direc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howing the W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486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 - What Success Looks Li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s - How we will w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- How much, by wh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ies - What we will focus 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tives - Specific projects we will underta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tter’s Eight Stages of Successful Chan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721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a sense of urg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vision of being a premier compa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a guiding coal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mp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vision and strate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 Sigma at my compa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e the change v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ower employees for broad based 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gressive results oriented training at all l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 short-term w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50M in six months at Company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olidate gains and produce more 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nnual operating plan and communications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chor new approaches in the cul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mpion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 Black Belts, Black Belts, Green Bel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s of Successful Chan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1360" y="129528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ng forces - Burning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, respected l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 particip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- Tight networks and patt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 and 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infor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280" y="990720"/>
            <a:ext cx="83314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unicate The Direction</a:t>
            </a:r>
            <a:br>
              <a:rPr sz="4000"/>
            </a:b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Provide Understanding and Hop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irection we are pursu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benefits we expect to g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- Results achieved to d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 should be clear, concise and continuo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ety of media should be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People take in and process information in different w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280" y="685800"/>
            <a:ext cx="83314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able -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et Up People for Su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resources - people, time, $$$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training - build needed ski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methods to accomplish    assigned tas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ve barr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ch and Couns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ognize and Reinforce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atch People Doing Things Righ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gnize accomplishments an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Psychological rew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Financial rew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inforce desired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atch people doing things righ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 want and need feed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“How am I doing?” , Ed Koch, Mayor, New Y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dback needed for impro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tool - Management revie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aders Lead Peo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11000" y="14860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Direc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- Leaders show the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- Leaders develop understanding and ho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, Coach, Counsel, Provide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- Leaders set people up for su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gnize Results and Reinforce Desired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- Leaders catch people doing things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ton Model for Career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378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reer S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en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ag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486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s, follows dir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ent contribu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, developer of people, network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s the organization’s dir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5440" y="4611600"/>
            <a:ext cx="5718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ership skills are requir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as a “Mentor” and “Spons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35600" y="5979960"/>
            <a:ext cx="32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lton and Thompson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e Fisher Plo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1066680"/>
            <a:ext cx="7696080" cy="396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85800" y="510552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Times New Roman"/>
              </a:rPr>
              <a:t>Technical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3640" y="5638680"/>
            <a:ext cx="77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 George Fisher, CEO at Motorola &amp; Kodak, has a Ph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pplied mathematics from Brow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048120"/>
            <a:ext cx="769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066680"/>
            <a:ext cx="0" cy="396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8061800">
            <a:off x="4686120" y="1409760"/>
            <a:ext cx="1143000" cy="213336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810800">
            <a:off x="4952520" y="2361960"/>
            <a:ext cx="6098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86880" y="2438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939200">
            <a:off x="1066680" y="1143000"/>
            <a:ext cx="1447920" cy="914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939200">
            <a:off x="7467480" y="4038480"/>
            <a:ext cx="1447920" cy="914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3360" y="44956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stici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5760" y="1143000"/>
            <a:ext cx="164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ilit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0000" y="1219320"/>
            <a:ext cx="2975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need employees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th people &amp; tech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kill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4440" y="5029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153640" y="50292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560" y="10666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0" y="261792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2160" y="45720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9680" y="6400800"/>
            <a:ext cx="3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3800" y="4648320"/>
            <a:ext cx="366840" cy="180720"/>
          </a:xfrm>
          <a:prstGeom prst="rightArrow">
            <a:avLst>
              <a:gd name="adj1" fmla="val 50000"/>
              <a:gd name="adj2" fmla="val 5074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1447920"/>
            <a:ext cx="366480" cy="152280"/>
          </a:xfrm>
          <a:prstGeom prst="leftArrow">
            <a:avLst>
              <a:gd name="adj1" fmla="val 50000"/>
              <a:gd name="adj2" fmla="val 601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ay’s Realiti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Leadership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Leaders D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Leadership Ski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ys to Develop Leadership Ski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otes on Leadersh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1360" y="1066680"/>
            <a:ext cx="8051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The very essence of leadership is you have to have a </a:t>
            </a:r>
            <a:r>
              <a:rPr b="1" lang="en-US" sz="2000" spc="-1" strike="noStrike">
                <a:solidFill>
                  <a:srgbClr val="fc0128"/>
                </a:solidFill>
                <a:latin typeface="New York"/>
              </a:rPr>
              <a:t>vision.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  It  s got to be a vision you </a:t>
            </a:r>
            <a:r>
              <a:rPr b="1" lang="en-US" sz="2000" spc="-1" strike="noStrike">
                <a:solidFill>
                  <a:srgbClr val="fc0128"/>
                </a:solidFill>
                <a:latin typeface="New York"/>
              </a:rPr>
              <a:t>articulate forcefully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 on every occasion.  You can’t blow an </a:t>
            </a:r>
            <a:r>
              <a:rPr b="1" lang="en-US" sz="2000" spc="-1" strike="noStrike">
                <a:solidFill>
                  <a:srgbClr val="fc0128"/>
                </a:solidFill>
                <a:latin typeface="New York"/>
              </a:rPr>
              <a:t>uncertain trumpet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Rev. Theodore Hesburgh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President Emeritus, Notre Dame Univers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“</a:t>
            </a:r>
            <a:r>
              <a:rPr b="1" lang="en-US" sz="2000" spc="-1" strike="noStrike">
                <a:solidFill>
                  <a:srgbClr val="fc0128"/>
                </a:solidFill>
                <a:latin typeface="New York"/>
              </a:rPr>
              <a:t>Leadership and learning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 are indispensable to each other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John F. Kenne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November 22, 196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The </a:t>
            </a:r>
            <a:r>
              <a:rPr b="1" lang="en-US" sz="2000" spc="-1" strike="noStrike">
                <a:solidFill>
                  <a:srgbClr val="fc0128"/>
                </a:solidFill>
                <a:latin typeface="New York"/>
              </a:rPr>
              <a:t>speed of the leader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 determines the rate of the pack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It is the capacity to develop and </a:t>
            </a:r>
            <a:r>
              <a:rPr b="1" lang="en-US" sz="2000" spc="-1" strike="noStrike">
                <a:solidFill>
                  <a:srgbClr val="fc0128"/>
                </a:solidFill>
                <a:latin typeface="New York"/>
              </a:rPr>
              <a:t>improve their skills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 that distinguishes leaders from their follower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Warren Bennis and Bert Nan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otes on Leadersh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1360" y="114300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The best coaches know </a:t>
            </a:r>
            <a:r>
              <a:rPr b="1" lang="en-US" sz="2000" spc="-1" strike="noStrike">
                <a:solidFill>
                  <a:srgbClr val="fc0128"/>
                </a:solidFill>
                <a:latin typeface="New York"/>
              </a:rPr>
              <a:t>what the end result looks like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.--If you don’t know what the end result is supposed to look like, you can’t get there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Vince Lombard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Hey, Wait a Minut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John Madden p2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Failing to</a:t>
            </a:r>
            <a:r>
              <a:rPr b="1" lang="en-US" sz="2000" spc="-1" strike="noStrike">
                <a:solidFill>
                  <a:srgbClr val="fc0128"/>
                </a:solidFill>
                <a:latin typeface="New York"/>
              </a:rPr>
              <a:t> prepare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 is preparing to fai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John Woo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The secret of success is </a:t>
            </a:r>
            <a:r>
              <a:rPr b="1" lang="en-US" sz="2000" spc="-1" strike="noStrike">
                <a:solidFill>
                  <a:srgbClr val="fc0128"/>
                </a:solidFill>
                <a:latin typeface="New York"/>
              </a:rPr>
              <a:t>constancy of purpos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New Yor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Benjamin Disrae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otes on Leadersh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Life is like a dog sled team.  If you’re not the </a:t>
            </a:r>
            <a:r>
              <a:rPr b="1" lang="en-US" sz="2000" spc="-1" strike="noStrike">
                <a:solidFill>
                  <a:srgbClr val="fc0128"/>
                </a:solidFill>
                <a:latin typeface="New York"/>
              </a:rPr>
              <a:t>lead dog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 the view never change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Anonymo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"Leadership:  the art of </a:t>
            </a:r>
            <a:r>
              <a:rPr b="1" lang="en-US" sz="2000" spc="-1" strike="noStrike">
                <a:solidFill>
                  <a:srgbClr val="fc0128"/>
                </a:solidFill>
                <a:latin typeface="New York"/>
              </a:rPr>
              <a:t>getting someone else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 to do something you want done because he wants to do it.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Dwight D. Eisenh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Leaders have </a:t>
            </a:r>
            <a:r>
              <a:rPr b="1" lang="en-US" sz="2000" spc="-1" strike="noStrike">
                <a:solidFill>
                  <a:srgbClr val="fc0128"/>
                </a:solidFill>
                <a:latin typeface="New York"/>
              </a:rPr>
              <a:t>followers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”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Bill Gore, Founder, W. L. Gore and Associ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You can manage what you cannot </a:t>
            </a:r>
            <a:r>
              <a:rPr b="1" lang="en-US" sz="2000" spc="-1" strike="noStrike">
                <a:solidFill>
                  <a:srgbClr val="fc0128"/>
                </a:solidFill>
                <a:latin typeface="New York"/>
              </a:rPr>
              <a:t>understand,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 but you cannot lead it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Myron Trib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Requires Shifts i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, Skills and Attitu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1828800"/>
            <a:ext cx="4343400" cy="3276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2895480"/>
            <a:ext cx="4343400" cy="327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2895480"/>
            <a:ext cx="4343400" cy="3276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03680" y="3546360"/>
            <a:ext cx="170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a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ind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20718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5960" y="129528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17240" y="485136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7240" y="4851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41320" y="608472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7720" y="6084720"/>
            <a:ext cx="34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Attitude and Des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4680" y="6354720"/>
            <a:ext cx="195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Covey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Leadership Ski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262160"/>
            <a:ext cx="7543800" cy="33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Acum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how business 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nd Systems Think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c Planning and Deploy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keholder Buil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– Clear, concise &amp; continu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ing and Coac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d Improvement Methods (Six Sigm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to Deal With Teams &amp; Group Dynam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ing Design and Facili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lanning and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ing Human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20040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371600" y="3657600"/>
            <a:ext cx="12952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447920" y="4114800"/>
            <a:ext cx="1295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523880" y="4648320"/>
            <a:ext cx="14479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1523520" y="5029200"/>
            <a:ext cx="16002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523520" y="5257440"/>
            <a:ext cx="17528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523880" y="5486040"/>
            <a:ext cx="19814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21600">
            <a:off x="1199160" y="4595040"/>
            <a:ext cx="202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re Proces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3809880"/>
            <a:ext cx="1216080" cy="268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4724280"/>
            <a:ext cx="1371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Market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6172200"/>
            <a:ext cx="3036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usiness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2514600"/>
            <a:ext cx="25146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gmt. Info. S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486400" y="5410080"/>
            <a:ext cx="1219320" cy="10670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18288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762120"/>
            <a:ext cx="325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Product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1371600"/>
            <a:ext cx="19047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nterprise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64320" y="2438280"/>
            <a:ext cx="2479680" cy="2971800"/>
          </a:xfrm>
          <a:prstGeom prst="rect">
            <a:avLst/>
          </a:prstGeom>
          <a:noFill/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60880" y="1855800"/>
            <a:ext cx="811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37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1600200"/>
            <a:ext cx="1905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677960"/>
            <a:ext cx="2286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Requirements Collections and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2666880"/>
            <a:ext cx="1523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Market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28240" y="2514240"/>
            <a:ext cx="304920" cy="15238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143000" y="2666880"/>
            <a:ext cx="1298520" cy="13305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00200"/>
            <a:ext cx="22096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191120" y="1371600"/>
            <a:ext cx="2057400" cy="459720"/>
            <a:chOff x="4191120" y="1371600"/>
            <a:chExt cx="2057400" cy="459720"/>
          </a:xfrm>
        </p:grpSpPr>
        <p:sp>
          <p:nvSpPr>
            <p:cNvPr id="171" name=""/>
            <p:cNvSpPr/>
            <p:nvPr/>
          </p:nvSpPr>
          <p:spPr>
            <a:xfrm>
              <a:off x="4572000" y="1371600"/>
              <a:ext cx="10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1120" y="1371600"/>
              <a:ext cx="205740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flipV="1">
            <a:off x="2438280" y="1371240"/>
            <a:ext cx="175284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438280" y="1828440"/>
            <a:ext cx="190512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191120" y="1930320"/>
            <a:ext cx="2057400" cy="459720"/>
            <a:chOff x="4191120" y="1930320"/>
            <a:chExt cx="2057400" cy="459720"/>
          </a:xfrm>
        </p:grpSpPr>
        <p:sp>
          <p:nvSpPr>
            <p:cNvPr id="176" name=""/>
            <p:cNvSpPr/>
            <p:nvPr/>
          </p:nvSpPr>
          <p:spPr>
            <a:xfrm>
              <a:off x="4251960" y="1930320"/>
              <a:ext cx="189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Develop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1120" y="1965240"/>
              <a:ext cx="205740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115520" y="2489040"/>
            <a:ext cx="2163600" cy="459720"/>
            <a:chOff x="4115520" y="2489040"/>
            <a:chExt cx="2163600" cy="459720"/>
          </a:xfrm>
        </p:grpSpPr>
        <p:sp>
          <p:nvSpPr>
            <p:cNvPr id="179" name=""/>
            <p:cNvSpPr/>
            <p:nvPr/>
          </p:nvSpPr>
          <p:spPr>
            <a:xfrm>
              <a:off x="4115520" y="248904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Manufactu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91120" y="2514240"/>
              <a:ext cx="2057400" cy="398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191120" y="3048120"/>
            <a:ext cx="2057400" cy="459720"/>
            <a:chOff x="4191120" y="3048120"/>
            <a:chExt cx="2057400" cy="459720"/>
          </a:xfrm>
        </p:grpSpPr>
        <p:sp>
          <p:nvSpPr>
            <p:cNvPr id="182" name=""/>
            <p:cNvSpPr/>
            <p:nvPr/>
          </p:nvSpPr>
          <p:spPr>
            <a:xfrm>
              <a:off x="4572000" y="30481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91120" y="3138480"/>
              <a:ext cx="2057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219640" y="1752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2895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651040" y="3416400"/>
            <a:ext cx="1063080" cy="459720"/>
            <a:chOff x="2651040" y="3416400"/>
            <a:chExt cx="1063080" cy="459720"/>
          </a:xfrm>
        </p:grpSpPr>
        <p:sp>
          <p:nvSpPr>
            <p:cNvPr id="188" name=""/>
            <p:cNvSpPr/>
            <p:nvPr/>
          </p:nvSpPr>
          <p:spPr>
            <a:xfrm>
              <a:off x="2651040" y="341640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Sel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66880" y="3527640"/>
              <a:ext cx="9907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743200" y="3879720"/>
            <a:ext cx="1401480" cy="459720"/>
            <a:chOff x="2743200" y="3879720"/>
            <a:chExt cx="1401480" cy="459720"/>
          </a:xfrm>
        </p:grpSpPr>
        <p:sp>
          <p:nvSpPr>
            <p:cNvPr id="191" name=""/>
            <p:cNvSpPr/>
            <p:nvPr/>
          </p:nvSpPr>
          <p:spPr>
            <a:xfrm>
              <a:off x="2743200" y="387972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Orde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59040" y="3990600"/>
              <a:ext cx="13716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972520" y="4419720"/>
            <a:ext cx="1774800" cy="459720"/>
            <a:chOff x="2972520" y="4419720"/>
            <a:chExt cx="1774800" cy="459720"/>
          </a:xfrm>
        </p:grpSpPr>
        <p:sp>
          <p:nvSpPr>
            <p:cNvPr id="194" name=""/>
            <p:cNvSpPr/>
            <p:nvPr/>
          </p:nvSpPr>
          <p:spPr>
            <a:xfrm>
              <a:off x="2972520" y="441972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87280" y="4454640"/>
              <a:ext cx="175248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124080" y="4876920"/>
            <a:ext cx="1046520" cy="459720"/>
            <a:chOff x="3124080" y="4876920"/>
            <a:chExt cx="1046520" cy="459720"/>
          </a:xfrm>
        </p:grpSpPr>
        <p:sp>
          <p:nvSpPr>
            <p:cNvPr id="197" name=""/>
            <p:cNvSpPr/>
            <p:nvPr/>
          </p:nvSpPr>
          <p:spPr>
            <a:xfrm>
              <a:off x="3124080" y="4876920"/>
              <a:ext cx="104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Bil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39920" y="4987800"/>
              <a:ext cx="9903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5334120"/>
            <a:ext cx="1503720" cy="459720"/>
            <a:chOff x="3276720" y="5334120"/>
            <a:chExt cx="1503720" cy="459720"/>
          </a:xfrm>
        </p:grpSpPr>
        <p:sp>
          <p:nvSpPr>
            <p:cNvPr id="200" name=""/>
            <p:cNvSpPr/>
            <p:nvPr/>
          </p:nvSpPr>
          <p:spPr>
            <a:xfrm>
              <a:off x="3276720" y="5334120"/>
              <a:ext cx="150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Col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92560" y="5445000"/>
              <a:ext cx="1447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505320" y="5791320"/>
            <a:ext cx="1130040" cy="459720"/>
            <a:chOff x="3505320" y="5791320"/>
            <a:chExt cx="1130040" cy="459720"/>
          </a:xfrm>
        </p:grpSpPr>
        <p:sp>
          <p:nvSpPr>
            <p:cNvPr id="203" name=""/>
            <p:cNvSpPr/>
            <p:nvPr/>
          </p:nvSpPr>
          <p:spPr>
            <a:xfrm>
              <a:off x="3505320" y="579132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21160" y="5902560"/>
              <a:ext cx="106668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>
            <a:stCxn id="182" idx="2"/>
            <a:endCxn id="195" idx="3"/>
          </p:cNvCxnSpPr>
          <p:nvPr/>
        </p:nvCxnSpPr>
        <p:spPr>
          <a:xfrm rot="5400000">
            <a:off x="4415760" y="3848040"/>
            <a:ext cx="1140480" cy="4550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3657600" y="4800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5257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5715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s of Strategic Plan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iss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What the organization does for its custo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Vis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What the organization wants to bec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Valu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Principles organization will live b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Objectiv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What we have to do to be successfu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trate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How we will achieve our objec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Goa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Numerical targets that enable the organization to     meet its objec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Initiativ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Actions taken to implement strateg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eploy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Process of taking the strategies and objectives to each level of the organization so that the overall objectives are achie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42960"/>
            <a:ext cx="7721640" cy="3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s of Behavi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057400" y="1371240"/>
            <a:ext cx="0" cy="4419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579132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7840" y="1792440"/>
            <a:ext cx="188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2760" y="59324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267080"/>
            <a:ext cx="1828800" cy="121932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1523880"/>
            <a:ext cx="1828800" cy="121932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2819520"/>
            <a:ext cx="1828800" cy="121896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4572000"/>
            <a:ext cx="219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n’t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s too m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s too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30481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can make thi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will be good for 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120" y="1736640"/>
            <a:ext cx="310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will be good for 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’s get sta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886200" y="3962160"/>
            <a:ext cx="83808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867280" y="2666520"/>
            <a:ext cx="6858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ion to a New Idea – Modes of Behavi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11360" y="990720"/>
            <a:ext cx="7975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I –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a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This will never work - The cost is too hig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 don’t have time for th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II –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E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 see some benefit for me -  I think that I can make this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III –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Purposefu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can be good for 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Everyone should get this trai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Let’s get star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 Everyone starts in the reactive phase – “Goes Reactive!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We all pass through the Ego Phase bef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oming Purposefu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eople move through the phases at different r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Some people don’t ever get out of the Reactive ph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pping the Plan Around”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ilding Stakeholder Sup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209680"/>
            <a:ext cx="8153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572000"/>
            <a:ext cx="8153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5257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 to get input from stakeholders individually and revise the plan until you are read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the Plan with the stakeholders as a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41560" y="457200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48769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42960" y="1676520"/>
            <a:ext cx="41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7640" y="3032280"/>
            <a:ext cx="21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opt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09480" y="2286000"/>
            <a:ext cx="121932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2286000"/>
            <a:ext cx="914400" cy="220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48120" y="2286000"/>
            <a:ext cx="914400" cy="220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2286000"/>
            <a:ext cx="1143000" cy="220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486400" y="2286000"/>
            <a:ext cx="1066680" cy="220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3200" y="3184560"/>
            <a:ext cx="929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9520" y="3184560"/>
            <a:ext cx="1014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40120" y="3200400"/>
            <a:ext cx="929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4120" y="3200400"/>
            <a:ext cx="1014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0" y="3200400"/>
            <a:ext cx="929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ay’s Rea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Competition is forcing changes in all aspects of our socie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Busi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Gover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ealth C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 are demanding m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have to change how we work and man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ll aspects of our organ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ll processes we use to do our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5352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380880"/>
            <a:ext cx="79880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ders Recognize Differ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vel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Activity and Job Responsibility</a:t>
            </a: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76040" y="2362320"/>
            <a:ext cx="20275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we'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5040" y="3657600"/>
            <a:ext cx="3268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agerial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guide 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12880" y="5105520"/>
            <a:ext cx="2553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the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s d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03080" y="2576520"/>
            <a:ext cx="1363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ate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05080" y="3871800"/>
            <a:ext cx="1759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ag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64760" y="5318280"/>
            <a:ext cx="1838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6400" y="2576520"/>
            <a:ext cx="161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cu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25000" y="3871800"/>
            <a:ext cx="152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15000" y="5318280"/>
            <a:ext cx="1046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4419720"/>
            <a:ext cx="2347920" cy="1965240"/>
          </a:xfrm>
          <a:prstGeom prst="ellipse">
            <a:avLst/>
          </a:prstGeom>
          <a:noFill/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3124080"/>
            <a:ext cx="2347920" cy="1965600"/>
          </a:xfrm>
          <a:prstGeom prst="ellipse">
            <a:avLst/>
          </a:prstGeom>
          <a:noFill/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9880" y="1828800"/>
            <a:ext cx="2347920" cy="1965240"/>
          </a:xfrm>
          <a:prstGeom prst="ellipse">
            <a:avLst/>
          </a:prstGeom>
          <a:noFill/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ning Effective Meet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l-Defined meeting purpose, desired outcomes, agenda and ro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ing Ro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Leader – Runs the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Facilitator – Helps the group conduct the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cribe – Captures ideas and issues on flip chart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ep the group focused inclu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List and Parking L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ote Taker – Prepares the meeting min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imekeeper – Keeps track of the meet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13456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eting Rol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512720" y="1600200"/>
          <a:ext cx="1339920" cy="13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2720" y="1600200"/>
                    <a:ext cx="133992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538280" y="3733920"/>
          <a:ext cx="947880" cy="18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8280" y="3733920"/>
                    <a:ext cx="94788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7752240" y="2133720"/>
            <a:ext cx="101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81440" y="5565600"/>
            <a:ext cx="1662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 T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93240" y="3048120"/>
            <a:ext cx="225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97120" y="5638680"/>
            <a:ext cx="188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Kee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742080" y="3429000"/>
          <a:ext cx="677880" cy="204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42080" y="3429000"/>
                    <a:ext cx="67788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2" name="" descr=""/>
          <p:cNvPicPr/>
          <p:nvPr/>
        </p:nvPicPr>
        <p:blipFill>
          <a:blip r:embed="rId7"/>
          <a:stretch/>
        </p:blipFill>
        <p:spPr>
          <a:xfrm>
            <a:off x="5996160" y="1600200"/>
            <a:ext cx="1476360" cy="1386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8"/>
          <a:stretch/>
        </p:blipFill>
        <p:spPr>
          <a:xfrm rot="1464600">
            <a:off x="3621240" y="2797200"/>
            <a:ext cx="1663560" cy="21733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32480" y="507060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ili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comb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20560" y="228240"/>
            <a:ext cx="810288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AIC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 Sigma Process Improvement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504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the project and its financial imp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 the gap, listen to the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ze data to determine root ca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 the process – Implement the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the process, standardize, and document – Sustain the ga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5410080"/>
            <a:ext cx="2898720" cy="569880"/>
          </a:xfrm>
          <a:prstGeom prst="flowChartInputOutput">
            <a:avLst/>
          </a:prstGeom>
          <a:solidFill>
            <a:srgbClr val="8aa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4800" y="4487760"/>
            <a:ext cx="2899080" cy="569880"/>
          </a:xfrm>
          <a:prstGeom prst="flowChartInputOutput">
            <a:avLst/>
          </a:prstGeom>
          <a:solidFill>
            <a:srgbClr val="8aa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4800" y="3543480"/>
            <a:ext cx="2899080" cy="569880"/>
          </a:xfrm>
          <a:prstGeom prst="flowChartInputOutput">
            <a:avLst/>
          </a:prstGeom>
          <a:solidFill>
            <a:srgbClr val="8aa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4800" y="2598840"/>
            <a:ext cx="2899080" cy="569880"/>
          </a:xfrm>
          <a:prstGeom prst="flowChartInputOutput">
            <a:avLst/>
          </a:prstGeom>
          <a:solidFill>
            <a:srgbClr val="8aa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4800" y="1655640"/>
            <a:ext cx="2899080" cy="569880"/>
          </a:xfrm>
          <a:prstGeom prst="flowChartInputOutput">
            <a:avLst/>
          </a:prstGeom>
          <a:solidFill>
            <a:srgbClr val="8aa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9552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685800" y="1144440"/>
          <a:ext cx="7848720" cy="5103720"/>
        </p:xfrm>
        <a:graphic>
          <a:graphicData uri="http://schemas.openxmlformats.org/drawingml/2006/table">
            <a:tbl>
              <a:tblPr/>
              <a:tblGrid>
                <a:gridCol w="2205000"/>
                <a:gridCol w="1441440"/>
                <a:gridCol w="1379880"/>
                <a:gridCol w="1412640"/>
                <a:gridCol w="140976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Ma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and Effect Mat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 Systems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bility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 Modes and Effects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-Vari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of Experi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Plans and S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0" y="2127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MAIC and the Improve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ths of Leader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ership is a rare sk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ers are born not ma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ers are charisma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ership exists only at the top of an orga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eader controls, directs, prods, manipul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nis and Nanus 198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Change Is Requi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07640" y="1760040"/>
            <a:ext cx="7381800" cy="33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an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Doing the Same Things and Expec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ter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Person Who Enjoys a Change is a Wet Ba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Can’t Change Your Mind You Can’t Change Anything”--George B. Sha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se Who Fail to Respond to Their Changing World Will Have Less Influence in I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ys to Develop Leadership Ski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7721280" cy="21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books and arti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nd cour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 the subject with colleagu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e, Practice, Practice, ………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36720" y="4078440"/>
            <a:ext cx="535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oming a leader is li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to play the violin in publ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Ba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I Be Successful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doubt that a small group of committed people can change the World. Indeed,  it is the only thing that ever ha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garet M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 Live in a New Er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8051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d Paradigm - One Jo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Go to work, do your job and come ho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Paradigm - We Have Two Job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our 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mpro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how you do your 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Issu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How to balance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ing” and “Improving” workloa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 Help Us Make the Needed Chan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Leaders help a group of people move fr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One paradigm to anoth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 York"/>
              </a:rPr>
              <a:t>"Leadership:  the art of </a:t>
            </a:r>
            <a:r>
              <a:rPr b="1" lang="en-US" sz="2400" spc="-1" strike="noStrike">
                <a:solidFill>
                  <a:srgbClr val="fc0128"/>
                </a:solidFill>
                <a:latin typeface="New York"/>
              </a:rPr>
              <a:t>getting someone else</a:t>
            </a:r>
            <a:r>
              <a:rPr b="1" lang="en-US" sz="2400" spc="-1" strike="noStrike">
                <a:solidFill>
                  <a:srgbClr val="000000"/>
                </a:solidFill>
                <a:latin typeface="New York"/>
              </a:rPr>
              <a:t> to do something you want done because he wants to do it.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 Yor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New York"/>
              </a:rPr>
              <a:t>Dwight D. Eisenh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 York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New York"/>
              </a:rPr>
              <a:t>Leaders have </a:t>
            </a:r>
            <a:r>
              <a:rPr b="1" lang="en-US" sz="2400" spc="-1" strike="noStrike">
                <a:solidFill>
                  <a:srgbClr val="fc0128"/>
                </a:solidFill>
                <a:latin typeface="New York"/>
              </a:rPr>
              <a:t>followers</a:t>
            </a:r>
            <a:r>
              <a:rPr b="1" lang="en-US" sz="2400" spc="-1" strike="noStrike">
                <a:solidFill>
                  <a:srgbClr val="000000"/>
                </a:solidFill>
                <a:latin typeface="New York"/>
              </a:rPr>
              <a:t>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 York"/>
              </a:rPr>
              <a:t>Bill Gore, Founder, W. L. Gore and Associ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ve Many Kinds of Lead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adem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igio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stical Lead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many m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Requires Both Leading and Manag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378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a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ing Between Paradig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ing Right Th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Improv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ing &amp; Developing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486080"/>
            <a:ext cx="378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nag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Within a Paradig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ing Things R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lding the Ga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ing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Need Both Leading and Manag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1600" y="1752480"/>
            <a:ext cx="267516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Lead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in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7880" y="2514600"/>
            <a:ext cx="17031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Ma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1981080"/>
            <a:ext cx="1981080" cy="175284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5440" y="392580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appy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26668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274320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33526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523520" y="449568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5238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3280" y="4495680"/>
            <a:ext cx="3178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What’s work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Need to do differentl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23280" y="5867280"/>
            <a:ext cx="6648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ealthy processes serving happy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Spent on Doing and Improving 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486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Leading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Mana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“Improving” Work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“Doing” 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cutiv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9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7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7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3T19:41:55Z</dcterms:created>
  <dc:creator/>
  <dc:description/>
  <dc:language>en-US</dc:language>
  <cp:lastModifiedBy>user</cp:lastModifiedBy>
  <cp:lastPrinted>2000-08-04T11:45:23Z</cp:lastPrinted>
  <dcterms:modified xsi:type="dcterms:W3CDTF">2010-01-04T09:55:43Z</dcterms:modified>
  <cp:revision>0</cp:revision>
  <dc:subject/>
  <dc:title>Developing Leadership Skills</dc:title>
</cp:coreProperties>
</file>